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18.png" ContentType="image/png"/>
  <Override PartName="/ppt/media/type.wav" ContentType="audio/x-wav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CBF-1836-4DBB-AE8F-35DD74BC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097-A239-4FBE-9161-66BF02DA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B35-7C87-441C-AE75-AEE52869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CFD-18BE-439F-9463-593A1B29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519B-CCCC-4AA2-A9B8-805C1DFD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3870-0BBD-4D30-A318-95DECDE8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9667-538E-469D-A200-2218B3A6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808E-E106-4480-ABB2-050C94D2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DEDC-F651-4FB3-9176-22BBB6AE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F40B-8505-4228-9C28-3E3F0C3E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4EBF-C158-451A-A904-F36E830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C72-F862-44D8-83E7-A869A9F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F83E-D56A-4137-A9D5-AFEED249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DA1D-2011-4D32-BDAE-068D46D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EEFB-2D32-4263-80E0-CDF9BD61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1F68-4CC0-4A58-B40C-8E60A7F3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B218-136F-40BA-9C43-788A41D2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6E9-4584-4611-841B-BF221DFA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8DA-716C-4825-898E-98236254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B49-9B28-4E46-B328-C6FD5267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BA3-7B69-40B4-8075-135AAB0E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0CA-EA4A-4F79-8728-6BA39966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AA5-B823-4CD5-ABBF-56EE6326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A4D-FDD7-40A8-88E5-D377881F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297F-C33E-459A-BA71-A6F62AB80C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40BB-9401-49AC-90B3-C4E7E41CAA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5/Henry-VIII-kingofengland_1491-1547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8/Suisse_cantons.svg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hyperlink" Target="http://upload.wikimedia.org/wikipedia/commons/d/df/Ulrich-Zwingli-1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upload.wikimedia.org/wikipedia/commons/b/bc/Portrait_john_calvin.jpg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f/fa/Autograf%2C_Martin_Luther%2C_Nordisk_familjebok.png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upload.wikimedia.org/wikipedia/commons/6/61/Luther46c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upload.wikimedia.org/wikipedia/commons/1/15/Petersdom_von_Engelsburg_gesehen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en.wikipedia.org/wiki/File:St_Peter%27s_Square,_Vatican_City_-_April_2007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Protestant Reform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. Pagliaro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ymour High Schoo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4267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Church: Lutheranism (see diagram pg 49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eadershi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st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lv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th al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ib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of religious trut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orshi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aching &amp; Ritu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lievers interpret Bible on ow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33960" y="838080"/>
            <a:ext cx="380052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asants Revol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2821" b="21514"/>
          <a:stretch/>
        </p:blipFill>
        <p:spPr>
          <a:xfrm>
            <a:off x="0" y="1295280"/>
            <a:ext cx="5486400" cy="4133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1371600" y="2666880"/>
            <a:ext cx="1905120" cy="1828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033880" y="2209680"/>
            <a:ext cx="4110120" cy="464832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uther made an outlaw by Emperor Charles V in 152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rman princes objec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theran &amp; Catholic princes signed Peace of Augsburg, 1555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prince chose Lutheranism or Catholicis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3371760" cy="4371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this matters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etition between Catholics and Protestants to spread their version of Christianity throughout the worl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tholics and Protestants are found on every contin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Reformation Grows: The Church of Eng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5638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gan when Henry VIII wanted divor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ried to Catherine of Aragon (aunt of Charles V, H.R.E.) for 24 years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vorce refused by Pop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les’ influenc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nry left RC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nded Protestant Anglican Church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t of Supremacy 153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ing is supreme head of Church in Englan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ced parliament to agre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ancellor, Thomas More wouldn’t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xecute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40-Dissolution of Catholic Shrines and Monasterie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59-Act of Uniform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File:Henry-VIII-kingofengland 1491-154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9720" y="1523880"/>
            <a:ext cx="2924280" cy="5334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File:Hans Holbein d. J. 065.jpg"/>
          <p:cNvPicPr/>
          <p:nvPr/>
        </p:nvPicPr>
        <p:blipFill>
          <a:blip r:embed="rId4"/>
          <a:stretch/>
        </p:blipFill>
        <p:spPr>
          <a:xfrm>
            <a:off x="6176880" y="3124080"/>
            <a:ext cx="296712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mpact did Henry VIII’s actions have on the culture and religion of England for the rest of the 1500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Reformation Spreads: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ohn Calvin (Geneva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vinism (Huguenot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ilar to Lutheranis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destin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lrich Zwingli (Zürich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ple chu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vice focused on Bi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un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0" y="2133720"/>
            <a:ext cx="6857640" cy="4723920"/>
            <a:chOff x="2286000" y="2133720"/>
            <a:chExt cx="6857640" cy="4723920"/>
          </a:xfrm>
        </p:grpSpPr>
        <p:pic>
          <p:nvPicPr>
            <p:cNvPr id="135" name="" descr="File:Suisse cantons.sv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109760" y="3226320"/>
              <a:ext cx="5033880" cy="363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611840" y="2133720"/>
              <a:ext cx="1167120" cy="5950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1615"/>
                <a:gd name="adj5" fmla="val 268750"/>
                <a:gd name="adj6" fmla="val -37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Zür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6002280"/>
              <a:ext cx="1459080" cy="59472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24583"/>
                <a:gd name="adj5" fmla="val -18750"/>
                <a:gd name="adj6" fmla="val 14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724280" y="4006800"/>
            <a:ext cx="4419720" cy="2851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124080" y="5029200"/>
            <a:ext cx="28958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File:Ulrich-Zwingli-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32480" y="0"/>
            <a:ext cx="2711520" cy="3809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File:Portrait john calvi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2666880"/>
            <a:ext cx="27576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Reformation Spread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her Protestant Group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397160"/>
          <a:ext cx="6934320" cy="5170320"/>
        </p:xfrm>
        <a:graphic>
          <a:graphicData uri="http://schemas.openxmlformats.org/drawingml/2006/table">
            <a:tbl>
              <a:tblPr/>
              <a:tblGrid>
                <a:gridCol w="2362320"/>
                <a:gridCol w="457200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ugueno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ench Calvin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byteri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ottish Calvinists, led by John Kn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bapt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ecessor of Mennonites, the Amish, Quakers, and Bapt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rit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glicans with Calvinist infl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arat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uritans that wanted to break from the Anglican Church (Most notably the Pilgri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gradFill rotWithShape="0">
                      <a:gsLst>
                        <a:gs pos="0">
                          <a:srgbClr val="ffffc1"/>
                        </a:gs>
                        <a:gs pos="50000">
                          <a:srgbClr val="def6f1"/>
                        </a:gs>
                        <a:gs pos="100000">
                          <a:srgbClr val="ffffc1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Catholic Counter Reformat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urpose: help define and reform Catholicis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ep loyal memb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ey figur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gnatius Loyol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pe Paul II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pe Paul IV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2232000" cy="2971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File:Tizian 068.jpg"/>
          <p:cNvPicPr/>
          <p:nvPr/>
        </p:nvPicPr>
        <p:blipFill>
          <a:blip r:embed="rId3"/>
          <a:stretch/>
        </p:blipFill>
        <p:spPr>
          <a:xfrm>
            <a:off x="3581280" y="3352680"/>
            <a:ext cx="3021120" cy="3505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781680" y="4114800"/>
            <a:ext cx="2095560" cy="2743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676520" y="617220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oyo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9880" y="609588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aul I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0" y="60199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aul I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Jesui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Society of Jesus-New religious order, formed in 1540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nder: Ignatius Loyol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Principles of Jesuit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rsions &amp; Miss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litary-like train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.K.A. The Soldiers of Chris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op spread of Reform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lance of Faith &amp; Reas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amples of Jesuit colleges-BC, Georgetown, Gonzaga, Fairfield U, Marquette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File:Ihs-logo.svg"/>
          <p:cNvPicPr/>
          <p:nvPr/>
        </p:nvPicPr>
        <p:blipFill>
          <a:blip r:embed="rId2"/>
          <a:stretch/>
        </p:blipFill>
        <p:spPr>
          <a:xfrm>
            <a:off x="7086600" y="533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381720" y="2590920"/>
            <a:ext cx="2762280" cy="2485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324480" y="2286000"/>
            <a:ext cx="2432160" cy="2828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477120" y="21337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477120" y="2743200"/>
            <a:ext cx="2381040" cy="2352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6324480" y="2971800"/>
            <a:ext cx="2819520" cy="1965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3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2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4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in Ide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VOLUTION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tin Luther’s protest over abuses in the Catholic Church led to the founding of Protestant church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uncil of Tren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led by Pope Paul II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45-156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rified difference between Catholic and Protesta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unter-acted Refor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urch interprets Bib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sonal interpretation=heres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ith &amp; Good works earned a spot in heav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aith alone didn’t sav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ble and Church tradition equal guides to Christian lif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ulgences val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le of indulgences bann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unter Reformation Ac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quisi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x of Forbidden Book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05740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etition for Sou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743200"/>
            <a:ext cx="6934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th groups sent missionaries to Asia, Africa, and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ew World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o gai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6740640" y="3657600"/>
              <a:ext cx="240336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4160880" y="3657600"/>
              <a:ext cx="2573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1752480" y="3657600"/>
              <a:ext cx="240372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5"/>
            <a:stretch/>
          </p:blipFill>
          <p:spPr>
            <a:xfrm>
              <a:off x="0" y="3657600"/>
              <a:ext cx="2133720" cy="320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File:Xavier f map of voyages asia.PNG"/>
          <p:cNvPicPr/>
          <p:nvPr/>
        </p:nvPicPr>
        <p:blipFill>
          <a:blip r:embed="rId6"/>
          <a:stretch/>
        </p:blipFill>
        <p:spPr>
          <a:xfrm>
            <a:off x="1523880" y="2343240"/>
            <a:ext cx="7620120" cy="4514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File:Franciscus de Xabier.jpg"/>
          <p:cNvPicPr/>
          <p:nvPr/>
        </p:nvPicPr>
        <p:blipFill>
          <a:blip r:embed="rId7"/>
          <a:stretch/>
        </p:blipFill>
        <p:spPr>
          <a:xfrm>
            <a:off x="4800600" y="0"/>
            <a:ext cx="2719440" cy="3419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0"/>
            <a:ext cx="4114800" cy="2653560"/>
          </a:xfrm>
          <a:prstGeom prst="rect">
            <a:avLst/>
          </a:prstGeom>
          <a:solidFill>
            <a:srgbClr val="8dc6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hina…"St. Francis Xavier made it a point not only to convert the people but also destroy the idols and ancient places of worship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ffects of the Reforma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itic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ise of Nation-Sta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ligio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ars and persecu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denominations develop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mphasis on education from both sid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stioning of Beliefs &amp; Authority led to the Scientific Revolution and Enlighten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nting in vernacular helped spread Luther’s idea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se ideas sparked revolts and wa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w faiths emerged during the 1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century, as people began to interpret the Bible in different way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Counter Reformation was a movement of internal renewal, as well as a Catholic response to the Refor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it matters today…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y Protestant churches began during the Refor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arly 1/5 of Christians in the world are Protestant (400,000,00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ny Catholic schools and universities are the results of reforms within the Churc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ey Vocabula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rm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ulge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form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uther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sta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ace of Augsbur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glica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28920" y="609480"/>
            <a:ext cx="3390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tin Luth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ohann Tetz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ohn Calvi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lrich Zwingl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pe Leo X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rles V, Holy Roman Emper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mmarize the factors that encourages the Protestant Refor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ick Revie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Catholic Church was weakened by internal conflic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id the Great Schism weaken the Church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 vocal opponents of the situation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ople began to question and speak out against Church practice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wned 20-33% of land in Europ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id no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rged tithe to membe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gued against sale of indulgenc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ristian Humanists wanted a return to Christian value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62280" y="2666880"/>
            <a:ext cx="2685960" cy="4191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2666880"/>
            <a:ext cx="286560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24382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iticism of th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ssential Question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o is credited with the beginning of the Protestant Reformation in Europe? Why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File:Autograf, Martin Luther, Nordisk familjebok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981080"/>
            <a:ext cx="701064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File:Luther46c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8120" y="3505320"/>
            <a:ext cx="31176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yze Martin Luther’s role in shaping the Protestant Reformation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o was Luther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essor at Wittenberg (Germany) Univers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lieved people got to heaven only through faith in Christian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14600" y="3124080"/>
            <a:ext cx="419112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inety-Five The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90720" y="2057400"/>
            <a:ext cx="2485800" cy="3733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sue: the sale of indulgen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tzel-raising money for St. Peter’s Basilic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uther posted 95-Theses to door of Wittenberg Church (1517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bated Church Abus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ble = source of religious trut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lvation through faith, not 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testant-Those who broke with RCC after 1529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formation-Movement in opposition to RC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143000"/>
            <a:ext cx="7619760" cy="5486040"/>
            <a:chOff x="457200" y="1143000"/>
            <a:chExt cx="7619760" cy="548604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457200" y="1143000"/>
              <a:ext cx="7619760" cy="54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712880" y="4601520"/>
              <a:ext cx="5107680" cy="151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Forgiveness of all one’s sins, PAST &amp; FUTU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l J. Tetzel: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49 ( 3501 ) 56 74 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File:Petersdom von Engelsburg gesehe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86200" y="16002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9880" y="4375080"/>
            <a:ext cx="4419720" cy="2482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5:22:04Z</dcterms:created>
  <dc:creator>Chris</dc:creator>
  <dc:description/>
  <dc:language>en-US</dc:language>
  <cp:lastModifiedBy>cpagliaro</cp:lastModifiedBy>
  <dcterms:modified xsi:type="dcterms:W3CDTF">2009-05-20T17:21:13Z</dcterms:modified>
  <cp:revision>24</cp:revision>
  <dc:subject/>
  <dc:title>The Renaissance &amp; Reformation</dc:title>
</cp:coreProperties>
</file>